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64F-DF56-49C3-84BA-608FBEFB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20D-E6A3-4115-912E-8B6FB6E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FA0-7ED5-4616-A908-683130EE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FF0-D466-4525-9D82-24AFC033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31D-E092-49B7-9219-B7B0C8EF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CC4-9C62-411C-82EC-4A508AAA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514-5A40-4EAB-81EA-3078366C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034-776D-476C-9C42-8DB89354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92B-EF6A-4796-A202-B0B8963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926-38DB-4553-B020-6F56188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EE6-FF92-4751-A2DE-F9B433C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66E-705A-430F-8733-FD83FB8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F05-CF5C-4976-9E3C-1A684C0F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POETRY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O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OBERT FR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349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76920" y="247320"/>
            <a:ext cx="4267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ads diverged in a yellow wood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rry I could not travel bo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 one traveler, long I stoo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oked down one as far as I cou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here it bent in the undergrowth;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ook the other, as just as fai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aving perhaps the better clai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was grassy and wanted wear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as for that the passing t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worn them really about the same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oth that morning equally la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eaves no step had trodden black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, I kept the first for another day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 knowing how way leads on to wa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ubted if I should ever come back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all be telling this with a s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where ages and ages hence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ads diverged in a wood, and I-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ook the one less traveled b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at has made all the differ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 Not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3000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a cr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k down on 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st of sn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hemlock tre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iven my he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of mo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aved some p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day I had ru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st of Snow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y Robert Lee Fr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466092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4320" y="50371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612000"/>
            <a:ext cx="5410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ing By Woods On A Snowy Evenin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Robert Lee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woods these are I think I know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ouse is in the village, though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ill not see me stopping 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atch his woods fill up with snow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little horse must think it's que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op without a farmhouse nea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woods and frozen lak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est evening of the yea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ives his harness bells a shak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k if there is some mistak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other sound's the swee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sy wind and downy flak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ods are lovely, dark, and d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 have promises to k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iles to go before I sl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iles to go before I sle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535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23:47Z</dcterms:created>
  <dc:creator>nbdoe</dc:creator>
  <dc:description/>
  <dc:language>en-US</dc:language>
  <cp:lastModifiedBy>nbdoe</cp:lastModifiedBy>
  <dcterms:modified xsi:type="dcterms:W3CDTF">2007-12-03T02:12:45Z</dcterms:modified>
  <cp:revision>3</cp:revision>
  <dc:subject/>
  <dc:title>Slide 1</dc:title>
</cp:coreProperties>
</file>